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07043-6BBF-4FF5-ACF0-1BD4CD198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E85EC-89B5-46D2-9B0D-C52394F45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438FE-7183-4214-A2E0-0C613ACC8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FF523-DC06-4717-AE8F-CBB33C32E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2FA12-D61F-4410-AA82-BFE318DF7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16EE6-8B4F-4A1C-A1FD-ADD8B2855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90AF6-5B46-4B27-8D55-9934272F3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BE7B0-68A4-4B14-BEED-E3E675D36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0C842-7D06-4604-A228-8A7DA469C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82F7-CC4B-4FBD-A5B4-370ADA364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BD701-CA7E-4A3F-BADF-E5995DF1B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D9B44-622D-49B0-AD63-415AA772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B8431-E02C-439E-A88D-DB87C9A78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57DFF-659A-4492-8BF2-C61FAA7D0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3D892-07E3-432A-AEAF-787AD946B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F3450-770E-4ECB-A5A5-2B8367649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D7F00-3706-490E-8DF4-F130E26B5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86F83E-98A0-4E2D-86E0-27D6E91B58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803F2-64BD-420E-A304-0FA81B509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97C44-312E-49E9-A655-88C9CA3AE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03FAA4-FCDF-4432-A83F-BC751EFDA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2317C-0ED1-435A-A48D-BEDCC5DA5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A6CE9-B557-44F4-A0E0-6807D089F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2D25F-C1FD-41C2-AC31-C38899992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C3C7E-60F3-4DCC-9252-DDB0288C9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88A39-2D05-48A8-ABA4-88BA7F538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BE31F-2F1A-4713-829A-3DC6DE28F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9BC35-ADFD-48D4-8DC9-34BA60322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7C07B1-2EE7-4DA5-A96B-67A6E1B6FA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0A5005-91D6-4695-A860-91A7F5C638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268180-FAA6-4905-8598-37C006937C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8843A-B81C-4542-BEC5-107BD63BD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72FCB-E954-4F67-B490-2262B1D7D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68E86-E263-4A0B-8FE1-240585FE7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38686-5B9D-479E-A7E3-53FA2A003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B684B-EE14-4FFA-A563-C4524F444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028D1-E755-485C-91F6-35089C8BC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CCE4B-CEAA-483B-8BA7-26C5F268D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34135-72A7-45EC-AEDA-E43371D8D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AF3EB-AF17-45D8-A526-C953813D7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D3A28-5813-4595-8A6E-4D8F7E925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F413C1-182D-46C8-B569-13FD6D373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A77FF-7B85-4FA1-BDCB-77992C938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84EEF9-20B4-4C7F-B692-98960BC686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A016E-1CEB-499E-B00C-748ED9E9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338FE7-052E-4802-B893-2151C73FE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B9D347-BAEA-4896-BF7E-BECD248768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F432D-E95B-4E8E-936D-5FCDB855C3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BA7FA-53C3-457C-A503-180FC3CC3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F0ABF-0574-47E1-AC3D-82E13FC93C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D2FD8-9783-4B9A-A154-7D623E777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120D2-BCF5-47B9-A41C-A16C9B3DD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F964A-0B1B-4F35-AA2B-8E071E760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E8E65-C8C6-4AAB-B773-6B1441E534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9EAC49-103C-43CE-8E63-50CEB9DBA8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9712A-9B9D-4C9D-833C-06BE473A8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B3A98A-2756-424F-A3DC-092D18730F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0FB9-1C35-4934-BE44-0CBC828B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ACA3-508E-4095-9F83-FD373A51D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EE93-43F1-410D-A8E5-547A9A301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0FE8-1256-41D3-A8B4-79E7501FBE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3848-9C65-4E2A-9126-052599D545B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8975-CE3B-4A61-958C-B94259930B9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8C60-6F07-460C-ADE3-F4465EC141A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D89C-1C8A-495D-910D-7FA32338706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96464"/>
                </a:solidFill>
                <a:latin typeface="Arial Black"/>
              </a:rPr>
              <a:t>Lighting</a:t>
            </a:r>
            <a:endParaRPr b="0" lang="en-US" sz="5400" spc="-1" strike="noStrike">
              <a:solidFill>
                <a:srgbClr val="696464"/>
              </a:solidFill>
              <a:latin typeface="Franklin Gothic Book"/>
            </a:endParaRPr>
          </a:p>
        </p:txBody>
      </p:sp>
      <p:sp>
        <p:nvSpPr>
          <p:cNvPr id="22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4.05</a:t>
            </a:r>
            <a:endParaRPr b="0" lang="en-US" sz="4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herry Brooks</a:t>
            </a:r>
            <a:endParaRPr b="0" lang="en-US" sz="4400" spc="-1" strike="noStrike">
              <a:solidFill>
                <a:srgbClr val="000000"/>
              </a:solidFill>
              <a:latin typeface="Perpetua"/>
            </a:endParaRPr>
          </a:p>
        </p:txBody>
      </p:sp>
      <p:pic>
        <p:nvPicPr>
          <p:cNvPr id="230" name="Picture 4" descr="ABCD"/>
          <p:cNvPicPr/>
          <p:nvPr/>
        </p:nvPicPr>
        <p:blipFill>
          <a:blip r:embed="rId1"/>
          <a:stretch/>
        </p:blipFill>
        <p:spPr>
          <a:xfrm>
            <a:off x="6781680" y="4495680"/>
            <a:ext cx="1371600" cy="16002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andescent Bulbs </a:t>
            </a:r>
            <a:endParaRPr b="0" lang="en-US" sz="4000" spc="-1" strike="noStrike">
              <a:solidFill>
                <a:srgbClr val="696464"/>
              </a:solidFill>
              <a:latin typeface="Franklin Gothic Book"/>
            </a:endParaRPr>
          </a:p>
        </p:txBody>
      </p:sp>
      <p:pic>
        <p:nvPicPr>
          <p:cNvPr id="248" name="Picture 4" descr="http://www.desninaelectric.com/wp-content/uploads/2010/12/Incandescent-bulb.png"/>
          <p:cNvPicPr/>
          <p:nvPr/>
        </p:nvPicPr>
        <p:blipFill>
          <a:blip r:embed="rId1"/>
          <a:stretch/>
        </p:blipFill>
        <p:spPr>
          <a:xfrm>
            <a:off x="5334120" y="533520"/>
            <a:ext cx="3305160" cy="5505480"/>
          </a:xfrm>
          <a:prstGeom prst="rect">
            <a:avLst/>
          </a:prstGeom>
          <a:ln w="0">
            <a:noFill/>
          </a:ln>
        </p:spPr>
      </p:pic>
      <p:pic>
        <p:nvPicPr>
          <p:cNvPr id="249" name="Picture 6" descr="http://www.energysavers.gov/images/incandescent_lamp.gif"/>
          <p:cNvPicPr/>
          <p:nvPr/>
        </p:nvPicPr>
        <p:blipFill>
          <a:blip r:embed="rId2"/>
          <a:stretch/>
        </p:blipFill>
        <p:spPr>
          <a:xfrm>
            <a:off x="1371600" y="2666880"/>
            <a:ext cx="3038400" cy="28958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alogen Bulb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Special type of incandescent bulb</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Filled with pressurized ____________ gas, which makes it more efficient than a regular bulb.</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Usually ___________ than a regular bulb, produces a ___________ and more intense light </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More _________ but last longer</a:t>
            </a:r>
            <a:endParaRPr b="0" lang="en-US" sz="33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an become very hot (________F), can cause burns</a:t>
            </a:r>
            <a:endParaRPr b="0" lang="en-US" sz="3300" spc="-1" strike="noStrike">
              <a:solidFill>
                <a:srgbClr val="000000"/>
              </a:solidFill>
              <a:latin typeface="Perpetu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alogen Bulb</a:t>
            </a:r>
            <a:endParaRPr b="0" lang="en-US" sz="4000" spc="-1" strike="noStrike">
              <a:solidFill>
                <a:srgbClr val="696464"/>
              </a:solidFill>
              <a:latin typeface="Franklin Gothic Book"/>
            </a:endParaRPr>
          </a:p>
        </p:txBody>
      </p:sp>
      <p:pic>
        <p:nvPicPr>
          <p:cNvPr id="253" name="Picture 2" descr="http://images.dexknows.com/cms/Types_of_Halogen_Bulbs_128498_460.jpg"/>
          <p:cNvPicPr/>
          <p:nvPr/>
        </p:nvPicPr>
        <p:blipFill>
          <a:blip r:embed="rId1"/>
          <a:stretch/>
        </p:blipFill>
        <p:spPr>
          <a:xfrm>
            <a:off x="4191120" y="2514600"/>
            <a:ext cx="4381560" cy="2857680"/>
          </a:xfrm>
          <a:prstGeom prst="rect">
            <a:avLst/>
          </a:prstGeom>
          <a:ln w="0">
            <a:noFill/>
          </a:ln>
        </p:spPr>
      </p:pic>
      <p:pic>
        <p:nvPicPr>
          <p:cNvPr id="254" name="Picture 4" descr="Halogen Desk Lamp"/>
          <p:cNvPicPr/>
          <p:nvPr/>
        </p:nvPicPr>
        <p:blipFill>
          <a:blip r:embed="rId2"/>
          <a:stretch/>
        </p:blipFill>
        <p:spPr>
          <a:xfrm>
            <a:off x="1676520" y="2057400"/>
            <a:ext cx="3095640" cy="36291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uorescent Bulbs</a:t>
            </a:r>
            <a:endParaRPr b="0" lang="en-US" sz="4000" spc="-1" strike="noStrike">
              <a:solidFill>
                <a:srgbClr val="696464"/>
              </a:solidFill>
              <a:latin typeface="Franklin Gothic Book"/>
            </a:endParaRPr>
          </a:p>
        </p:txBody>
      </p:sp>
      <p:sp>
        <p:nvSpPr>
          <p:cNvPr id="25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ght that is produced when chemicals inside a sealed glass tube transform ______________ rays</a:t>
            </a: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duce various color casts</a:t>
            </a: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ually are long _________ tubes, but can also be __________ and U-shaped</a:t>
            </a: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n produce up to _____times the light of a standard bulb of the same wattage  </a:t>
            </a:r>
            <a:endParaRPr b="0" lang="en-US" sz="3200" spc="-1" strike="noStrike">
              <a:solidFill>
                <a:srgbClr val="000000"/>
              </a:solidFill>
              <a:latin typeface="Perpetu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uorescent Bulbs</a:t>
            </a:r>
            <a:endParaRPr b="0" lang="en-US" sz="40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9" name="Picture 2" descr="http://cse.ssl.berkeley.edu/rainbows/img/lightproject/clipart/fluorescent.jpg"/>
          <p:cNvPicPr/>
          <p:nvPr/>
        </p:nvPicPr>
        <p:blipFill>
          <a:blip r:embed="rId1"/>
          <a:stretch/>
        </p:blipFill>
        <p:spPr>
          <a:xfrm>
            <a:off x="304920" y="2438280"/>
            <a:ext cx="4114800" cy="3276720"/>
          </a:xfrm>
          <a:prstGeom prst="rect">
            <a:avLst/>
          </a:prstGeom>
          <a:ln w="0">
            <a:noFill/>
          </a:ln>
        </p:spPr>
      </p:pic>
      <p:pic>
        <p:nvPicPr>
          <p:cNvPr id="260" name="Picture 4" descr="http://best-b2b.com/userimg/867/889-1/circular-fluorescent-lamp-709.jpg"/>
          <p:cNvPicPr/>
          <p:nvPr/>
        </p:nvPicPr>
        <p:blipFill>
          <a:blip r:embed="rId2"/>
          <a:stretch/>
        </p:blipFill>
        <p:spPr>
          <a:xfrm>
            <a:off x="4572000" y="1676520"/>
            <a:ext cx="4114800" cy="30826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luorescent (con’t)</a:t>
            </a:r>
            <a:endParaRPr b="0" lang="en-US" sz="4000" spc="-1" strike="noStrike">
              <a:solidFill>
                <a:srgbClr val="696464"/>
              </a:solidFill>
              <a:latin typeface="Franklin Gothic Book"/>
            </a:endParaRPr>
          </a:p>
        </p:txBody>
      </p:sp>
      <p:sp>
        <p:nvSpPr>
          <p:cNvPr id="26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Look for the new ___________fluorescent bulbs (CFL) </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These screw into regular light bulb sockets</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st ________ but last longer</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annot be used with _______switches or electronic timers</a:t>
            </a:r>
            <a:endParaRPr b="0" lang="en-US" sz="3300" spc="-1" strike="noStrike">
              <a:solidFill>
                <a:srgbClr val="000000"/>
              </a:solidFill>
              <a:latin typeface="Perpetu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FLs</a:t>
            </a:r>
            <a:endParaRPr b="0" lang="en-US" sz="4000" spc="-1" strike="noStrike">
              <a:solidFill>
                <a:srgbClr val="696464"/>
              </a:solidFill>
              <a:latin typeface="Franklin Gothic Book"/>
            </a:endParaRPr>
          </a:p>
        </p:txBody>
      </p:sp>
      <p:pic>
        <p:nvPicPr>
          <p:cNvPr id="264" name="Picture 2" descr="http://ablamp.files.wordpress.com/2007/06/cfl_all2.jpg"/>
          <p:cNvPicPr/>
          <p:nvPr/>
        </p:nvPicPr>
        <p:blipFill>
          <a:blip r:embed="rId1"/>
          <a:stretch/>
        </p:blipFill>
        <p:spPr>
          <a:xfrm>
            <a:off x="3429000" y="457200"/>
            <a:ext cx="3809880" cy="2828880"/>
          </a:xfrm>
          <a:prstGeom prst="rect">
            <a:avLst/>
          </a:prstGeom>
          <a:ln w="0">
            <a:noFill/>
          </a:ln>
        </p:spPr>
      </p:pic>
      <p:pic>
        <p:nvPicPr>
          <p:cNvPr id="265" name="Picture 4" descr="http://www.inhabitat.com/wp-content/uploads/cflvincandescent.jpg"/>
          <p:cNvPicPr/>
          <p:nvPr/>
        </p:nvPicPr>
        <p:blipFill>
          <a:blip r:embed="rId2"/>
          <a:stretch/>
        </p:blipFill>
        <p:spPr>
          <a:xfrm>
            <a:off x="1600200" y="3352680"/>
            <a:ext cx="5114880" cy="31528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ight Emitting Diodes LED</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This diode is a __________ “chip” about the size of a grain of salt and made of crystals.</a:t>
            </a:r>
            <a:endParaRPr b="0" lang="en-US" sz="33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An LED bulb can last _________ hours OR more (_____ longer than CFL, 133x longer than a regular bulb)</a:t>
            </a:r>
            <a:endParaRPr b="0" lang="en-US" sz="33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nsidered to be the next major ___________ in lighting. </a:t>
            </a:r>
            <a:endParaRPr b="0" lang="en-US" sz="33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Just starting in residential use</a:t>
            </a:r>
            <a:endParaRPr b="0" lang="en-US" sz="3300" spc="-1" strike="noStrike">
              <a:solidFill>
                <a:srgbClr val="000000"/>
              </a:solidFill>
              <a:latin typeface="Perpetu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UTION: ALL 120 AND 240 VAC BULBS ARE FOR USE WITH STANDARD ON/OFF SWITCHES ONLY (unless specified as dimmable). Use with any type of dimmer, relay or other control circuit will VOID WARRANTY. LEDs are very sensitive and subject to premature failure from electrical noise spikes</a:t>
            </a:r>
            <a:br>
              <a:rPr sz="2400"/>
            </a:br>
            <a:br>
              <a:rPr sz="2400"/>
            </a:br>
            <a:r>
              <a:rPr b="0" lang="en-US" sz="2400" spc="-1" strike="noStrike">
                <a:solidFill>
                  <a:srgbClr val="000000"/>
                </a:solidFill>
                <a:latin typeface="Arial"/>
                <a:ea typeface="Arial"/>
              </a:rPr>
              <a:t>Excessive heat will cause LEDs to fail prematurely. They must be operated in an ambient temperature, not exceeding room temperature, for maximum life time. As the temperature rises above 75 degrees F, the life time goes down. Active cooling, such as a small fan, may be required if they are installed in a small enclosed space without ventilation.</a:t>
            </a:r>
            <a:endParaRPr b="0" lang="en-US" sz="2400" spc="-1" strike="noStrike">
              <a:solidFill>
                <a:srgbClr val="000000"/>
              </a:solidFill>
              <a:latin typeface="Perpetu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2" name="Picture 2" descr="http://www.bravolight.com/images/Operating-Room-LED-Lighting.jpg"/>
          <p:cNvPicPr/>
          <p:nvPr/>
        </p:nvPicPr>
        <p:blipFill>
          <a:blip r:embed="rId1"/>
          <a:stretch/>
        </p:blipFill>
        <p:spPr>
          <a:xfrm>
            <a:off x="914400" y="1600200"/>
            <a:ext cx="3200400" cy="4527720"/>
          </a:xfrm>
          <a:prstGeom prst="rect">
            <a:avLst/>
          </a:prstGeom>
          <a:ln w="0">
            <a:noFill/>
          </a:ln>
        </p:spPr>
      </p:pic>
      <p:pic>
        <p:nvPicPr>
          <p:cNvPr id="273" name="Picture 4" descr="http://www.leyton-lighting.co.uk/images/brochure/led-lights.jpg"/>
          <p:cNvPicPr/>
          <p:nvPr/>
        </p:nvPicPr>
        <p:blipFill>
          <a:blip r:embed="rId2"/>
          <a:stretch/>
        </p:blipFill>
        <p:spPr>
          <a:xfrm>
            <a:off x="4952880" y="1600200"/>
            <a:ext cx="3581640" cy="47642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n emphasize the best features of a room</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ffects the way a room can be used. Inadequate light causes eye strain, affect comfort levels, and result in accident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a:t>
            </a:r>
            <a:r>
              <a:rPr b="0" lang="en-US" sz="2800" spc="-1" strike="noStrike">
                <a:solidFill>
                  <a:srgbClr val="000000"/>
                </a:solidFill>
                <a:latin typeface="Arial"/>
                <a:ea typeface="Arial"/>
              </a:rPr>
              <a:t>is very efficient, blends well with sunlight, and makes most colors look good</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a:t>
            </a:r>
            <a:r>
              <a:rPr b="0" lang="en-US" sz="2800" spc="-1" strike="noStrike">
                <a:solidFill>
                  <a:srgbClr val="000000"/>
                </a:solidFill>
                <a:latin typeface="Arial"/>
                <a:ea typeface="Arial"/>
              </a:rPr>
              <a:t> is efficient but _________ flattering to many color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ber Optics</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Fiber optic lights are being used primarily in ___________ and for displays because they emit no ________ and no ultraviolet ________</a:t>
            </a:r>
            <a:endParaRPr b="0" lang="en-US" sz="40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ight flows through the glass strands and is focused at the ________</a:t>
            </a:r>
            <a:endParaRPr b="0" lang="en-US" sz="4000" spc="-1" strike="noStrike">
              <a:solidFill>
                <a:srgbClr val="000000"/>
              </a:solidFill>
              <a:latin typeface="Perpetu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t3.gstatic.com/images?q=tbn:ANd9GcTCMhGU3XND-U5uxEyzbsg1-5yoWOMzI5Kzb0Gj3zUtnAWrqK4DM0gjGa8"/>
          <p:cNvPicPr/>
          <p:nvPr/>
        </p:nvPicPr>
        <p:blipFill>
          <a:blip r:embed="rId1"/>
          <a:stretch/>
        </p:blipFill>
        <p:spPr>
          <a:xfrm>
            <a:off x="762120" y="304920"/>
            <a:ext cx="1828800" cy="1828800"/>
          </a:xfrm>
          <a:prstGeom prst="rect">
            <a:avLst/>
          </a:prstGeom>
          <a:ln w="0">
            <a:noFill/>
          </a:ln>
        </p:spPr>
      </p:pic>
      <p:pic>
        <p:nvPicPr>
          <p:cNvPr id="277" name="Picture 4" descr="Fiber Optic Lighting Systems for Inground Swimming Pools"/>
          <p:cNvPicPr/>
          <p:nvPr/>
        </p:nvPicPr>
        <p:blipFill>
          <a:blip r:embed="rId2"/>
          <a:stretch/>
        </p:blipFill>
        <p:spPr>
          <a:xfrm>
            <a:off x="4038480" y="152280"/>
            <a:ext cx="2857680" cy="2962440"/>
          </a:xfrm>
          <a:prstGeom prst="rect">
            <a:avLst/>
          </a:prstGeom>
          <a:ln w="0">
            <a:noFill/>
          </a:ln>
        </p:spPr>
      </p:pic>
      <p:pic>
        <p:nvPicPr>
          <p:cNvPr id="278" name="Picture 6" descr="http://inhabitat.com/wp-content/uploads/neuelichtscintilla.jpg"/>
          <p:cNvPicPr/>
          <p:nvPr/>
        </p:nvPicPr>
        <p:blipFill>
          <a:blip r:embed="rId3"/>
          <a:stretch/>
        </p:blipFill>
        <p:spPr>
          <a:xfrm>
            <a:off x="609480" y="3048120"/>
            <a:ext cx="3353040" cy="2435040"/>
          </a:xfrm>
          <a:prstGeom prst="rect">
            <a:avLst/>
          </a:prstGeom>
          <a:ln w="0">
            <a:noFill/>
          </a:ln>
        </p:spPr>
      </p:pic>
      <p:pic>
        <p:nvPicPr>
          <p:cNvPr id="279" name="Picture 8" descr="http://www.buyleds.com/catalog/images/3a11a_fnl010.jpg"/>
          <p:cNvPicPr/>
          <p:nvPr/>
        </p:nvPicPr>
        <p:blipFill>
          <a:blip r:embed="rId4"/>
          <a:stretch/>
        </p:blipFill>
        <p:spPr>
          <a:xfrm>
            <a:off x="6477120" y="3352680"/>
            <a:ext cx="2212920" cy="31626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tructural Lighting</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is is _______________ permanent lighting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ixtures and wiring are _____________ from view.</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X: wall washers</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soffit lightin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strip lighting</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down-light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valence lighting         cove lightin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cornice lighting </a:t>
            </a:r>
            <a:r>
              <a:rPr b="0" lang="en-US" sz="2600" spc="-1" strike="noStrike">
                <a:solidFill>
                  <a:srgbClr val="000000"/>
                </a:solidFill>
                <a:latin typeface="Arial"/>
                <a:ea typeface="Arial"/>
              </a:rPr>
              <a:t>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luminous ceiling panels</a:t>
            </a:r>
            <a:endParaRPr b="0" lang="en-US" sz="2600" spc="-1" strike="noStrike">
              <a:solidFill>
                <a:srgbClr val="000000"/>
              </a:solidFill>
              <a:latin typeface="Perpetu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___________________________</a:t>
            </a:r>
            <a:r>
              <a:rPr b="0" lang="en-US" sz="3200" spc="-1" strike="noStrike">
                <a:solidFill>
                  <a:srgbClr val="000000"/>
                </a:solidFill>
                <a:latin typeface="Arial"/>
                <a:ea typeface="Arial"/>
              </a:rPr>
              <a:t>: recessed ceiling lights that spread light over a wall from ceiling to floor</a:t>
            </a:r>
            <a:endParaRPr b="0" lang="en-US" sz="3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__________________________</a:t>
            </a:r>
            <a:r>
              <a:rPr b="0" lang="en-US" sz="3200" spc="-1" strike="noStrike">
                <a:solidFill>
                  <a:srgbClr val="000000"/>
                </a:solidFill>
                <a:latin typeface="Arial"/>
                <a:ea typeface="Arial"/>
              </a:rPr>
              <a:t>: light source (usually a fluorescent tube) mounted over a window and hidden by window valence. Shines light both upward and downward</a:t>
            </a:r>
            <a:endParaRPr b="0" lang="en-US" sz="3200" spc="-1" strike="noStrike">
              <a:solidFill>
                <a:srgbClr val="000000"/>
              </a:solidFill>
              <a:latin typeface="Perpetu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 lighting</a:t>
            </a:r>
            <a:r>
              <a:rPr b="0" lang="en-US" sz="2800" spc="-1" strike="noStrike">
                <a:solidFill>
                  <a:srgbClr val="000000"/>
                </a:solidFill>
                <a:latin typeface="Arial"/>
                <a:ea typeface="Arial"/>
              </a:rPr>
              <a:t>: mounted near the junction of wall and ceiling and directs light downward. Used to highlight wall hangings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 lighting</a:t>
            </a:r>
            <a:r>
              <a:rPr b="0" lang="en-US" sz="2800" spc="-1" strike="noStrike">
                <a:solidFill>
                  <a:srgbClr val="000000"/>
                </a:solidFill>
                <a:latin typeface="Arial"/>
                <a:ea typeface="Arial"/>
              </a:rPr>
              <a:t>: concealed light source that directs light upward toward the ceiling. Gives appearance of added heigh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_________</a:t>
            </a:r>
            <a:r>
              <a:rPr b="0" lang="en-US" sz="2800" spc="-1" strike="noStrike">
                <a:solidFill>
                  <a:srgbClr val="000000"/>
                </a:solidFill>
                <a:latin typeface="Arial"/>
                <a:ea typeface="Arial"/>
              </a:rPr>
              <a:t>: direct a beam of light from ceiling downward. Can be accent or general lighting. Flush with ceiling</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_________________:</a:t>
            </a:r>
            <a:r>
              <a:rPr b="0" lang="en-US" sz="2600" spc="-1" strike="noStrike">
                <a:solidFill>
                  <a:srgbClr val="000000"/>
                </a:solidFill>
                <a:latin typeface="Arial"/>
                <a:ea typeface="Arial"/>
              </a:rPr>
              <a:t> light enclosed in box-like structure that directs light downward. Usually a plastic panel diffuses the light, often used over kitchen and bathroom sink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_________</a:t>
            </a:r>
            <a:r>
              <a:rPr b="0" lang="en-US" sz="2800" spc="-1" strike="noStrike">
                <a:solidFill>
                  <a:srgbClr val="000000"/>
                </a:solidFill>
                <a:latin typeface="Arial"/>
                <a:ea typeface="Arial"/>
              </a:rPr>
              <a:t>: consist of a row of incandescent bulbs around top or sides of mirror in bath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______________</a:t>
            </a:r>
            <a:r>
              <a:rPr b="0" lang="en-US" sz="2800" spc="-1" strike="noStrike">
                <a:solidFill>
                  <a:srgbClr val="000000"/>
                </a:solidFill>
                <a:latin typeface="Arial"/>
                <a:ea typeface="Arial"/>
              </a:rPr>
              <a:t>: plastic panels covering fluorescent tubes. May cover all or part of ceiling, provides general light</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n-structural Lighting</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nsists of fixtures that can be ______________ or replaced. Various ceiling and wall fixtures as well as portable _____________.</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onsider __________ lighting, wall sconce, chandeliers, hanging pendants, lamps of all types and sizes. </a:t>
            </a:r>
            <a:endParaRPr b="0" lang="en-US" sz="33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an use all types of bulbs.</a:t>
            </a:r>
            <a:endParaRPr b="0" lang="en-US" sz="33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Perpetu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ighting for Safety</a:t>
            </a:r>
            <a:endParaRPr b="0" lang="en-US" sz="4000" spc="-1" strike="noStrike">
              <a:solidFill>
                <a:srgbClr val="696464"/>
              </a:solidFill>
              <a:latin typeface="Franklin Gothic Book"/>
            </a:endParaRPr>
          </a:p>
        </p:txBody>
      </p:sp>
      <p:sp>
        <p:nvSpPr>
          <p:cNvPr id="291" name=""/>
          <p:cNvSpPr txBox="1"/>
          <p:nvPr/>
        </p:nvSpPr>
        <p:spPr>
          <a:xfrm>
            <a:off x="914400" y="1447920"/>
            <a:ext cx="7772400" cy="4572000"/>
          </a:xfrm>
          <a:prstGeom prst="rect">
            <a:avLst/>
          </a:prstGeom>
          <a:noFill/>
          <a:ln w="0">
            <a:noFill/>
          </a:ln>
        </p:spPr>
        <p:txBody>
          <a:bodyPr lIns="90000" rIns="90000" tIns="46800" bIns="46800"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events ______________ that occur in dim light or darkness</a:t>
            </a:r>
            <a:endParaRPr b="0" lang="en-US" sz="32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ke sure all fixtures have ___________ seal that shows that fixture meets safety guidelines.</a:t>
            </a:r>
            <a:endParaRPr b="0" lang="en-US" sz="32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ke sure ___________ wiring meets local and state electrical safety codes </a:t>
            </a:r>
            <a:endParaRPr b="0" lang="en-US" sz="32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o not __________ outlets with too many lights. Can overload circuit and blow fuses or start fires in worst case </a:t>
            </a:r>
            <a:endParaRPr b="0" lang="en-US" sz="32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afety Issue in Lighting</a:t>
            </a:r>
            <a:endParaRPr b="0" lang="en-US" sz="4000" spc="-1" strike="noStrike">
              <a:solidFill>
                <a:srgbClr val="696464"/>
              </a:solidFill>
              <a:latin typeface="Franklin Gothic Book"/>
            </a:endParaRPr>
          </a:p>
        </p:txBody>
      </p:sp>
      <p:sp>
        <p:nvSpPr>
          <p:cNvPr id="29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re there switches at each ___________ into rooms </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ght at ___________ of home</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ght switch at ________ &amp; bottom of stairs</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re there controls for __________/carport lighting from ___________ the house</a:t>
            </a:r>
            <a:endParaRPr b="0" lang="en-US" sz="3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n you control outside lighting from inside the house</a:t>
            </a:r>
            <a:endParaRPr b="0" lang="en-US" sz="3200" spc="-1" strike="noStrike">
              <a:solidFill>
                <a:srgbClr val="000000"/>
              </a:solidFill>
              <a:latin typeface="Perpetu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Arial"/>
                <a:ea typeface="Arial"/>
              </a:rPr>
              <a:t>Future of Residential and </a:t>
            </a:r>
            <a:br>
              <a:rPr sz="3600"/>
            </a:br>
            <a:r>
              <a:rPr b="0" lang="en-US" sz="3600" spc="-1" strike="noStrike">
                <a:solidFill>
                  <a:srgbClr val="696464"/>
                </a:solidFill>
                <a:latin typeface="Arial"/>
                <a:ea typeface="Arial"/>
              </a:rPr>
              <a:t>Non-residential Lighting</a:t>
            </a:r>
            <a:endParaRPr b="0" lang="en-US" sz="3600" spc="-1" strike="noStrike">
              <a:solidFill>
                <a:srgbClr val="696464"/>
              </a:solidFill>
              <a:latin typeface="Franklin Gothic Book"/>
            </a:endParaRPr>
          </a:p>
        </p:txBody>
      </p:sp>
      <p:sp>
        <p:nvSpPr>
          <p:cNvPr id="295" name=""/>
          <p:cNvSpPr txBox="1"/>
          <p:nvPr/>
        </p:nvSpPr>
        <p:spPr>
          <a:xfrm>
            <a:off x="914400" y="1447920"/>
            <a:ext cx="7772400" cy="4572000"/>
          </a:xfrm>
          <a:prstGeom prst="rect">
            <a:avLst/>
          </a:prstGeom>
          <a:noFill/>
          <a:ln w="0">
            <a:noFill/>
          </a:ln>
        </p:spPr>
        <p:txBody>
          <a:bodyPr lIns="90000" rIns="90000" tIns="46800" bIns="46800" anchor="t">
            <a:normAutofit fontScale="91000"/>
          </a:bodyPr>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Lighting," he observes, "can now be flatter, slimmer, neater, and more diffuse. It's just a completely new world."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It certainly is – particularly when you consider that lighting can now take on a role, which in the past, your paint or wallpaper might have fulfilled. "Once you've got relatively neutral colors on your wall, then how that wall appears is much more down to the lighting," says Mike. This makes the interior design of your home a much more flexible thing – something that, unlike paint, can be switched off or changed according to your mood.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Such integration of light into our </a:t>
            </a:r>
            <a:r>
              <a:rPr b="0" lang="en-US" sz="1600" spc="-1" strike="noStrike" u="sng">
                <a:solidFill>
                  <a:srgbClr val="000000"/>
                </a:solidFill>
                <a:uFillTx/>
                <a:latin typeface="Arial Rounded MT Bold"/>
                <a:ea typeface="Arial"/>
              </a:rPr>
              <a:t>home decoration</a:t>
            </a:r>
            <a:r>
              <a:rPr b="0" lang="en-US" sz="1600" spc="-1" strike="noStrike">
                <a:solidFill>
                  <a:srgbClr val="000000"/>
                </a:solidFill>
                <a:latin typeface="Arial Rounded MT Bold"/>
                <a:ea typeface="Arial"/>
              </a:rPr>
              <a:t> is something that we can expect to see more of in the future, says Ray Molony, chairman of the judges at this year's Lighting Design Awards, who, alongside increased use of LEDs, expects to see lighting "built into furniture and surfaces" with "more controls for </a:t>
            </a:r>
            <a:r>
              <a:rPr b="0" lang="en-US" sz="1600" spc="-1" strike="noStrike" u="sng">
                <a:solidFill>
                  <a:srgbClr val="000000"/>
                </a:solidFill>
                <a:uFillTx/>
                <a:latin typeface="Arial Rounded MT Bold"/>
                <a:ea typeface="Arial"/>
              </a:rPr>
              <a:t>energy saving</a:t>
            </a:r>
            <a:r>
              <a:rPr b="0" lang="en-US" sz="1600" spc="-1" strike="noStrike">
                <a:solidFill>
                  <a:srgbClr val="000000"/>
                </a:solidFill>
                <a:latin typeface="Arial Rounded MT Bold"/>
                <a:ea typeface="Arial"/>
              </a:rPr>
              <a:t> and creating moods."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LED lighting might be energy efficient, flexible and long lasting, but it still has a way to go before the quality and output is up there with halogens, says Andrew Johnson, Associate at Bruce Munro Ltd, and that puts people off. It’s not only that. With LED lights around five to ten times as expensive as halogens, they are still far too pricey for the average home owner.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The good news is that you shouldn't have too long to wait before these problems are rectified. As Mark Major says, "The rate of development is just incredible. I have no doubt at all that within the next few years, LEDs will be quite common place."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Rounded MT Bold"/>
                <a:ea typeface="Arial"/>
              </a:rPr>
              <a:t>Emily Jenkinson is interiors writer for </a:t>
            </a:r>
            <a:r>
              <a:rPr b="0" i="1" lang="en-US" sz="1600" spc="-1" strike="noStrike" u="sng">
                <a:solidFill>
                  <a:srgbClr val="000000"/>
                </a:solidFill>
                <a:uFillTx/>
                <a:latin typeface="Arial Rounded MT Bold"/>
                <a:ea typeface="Arial"/>
              </a:rPr>
              <a:t>furniture</a:t>
            </a:r>
            <a:r>
              <a:rPr b="0" i="1" lang="en-US" sz="1600" spc="-1" strike="noStrike">
                <a:solidFill>
                  <a:srgbClr val="000000"/>
                </a:solidFill>
                <a:latin typeface="Arial Rounded MT Bold"/>
                <a:ea typeface="Arial"/>
              </a:rPr>
              <a:t> and interior design website </a:t>
            </a:r>
            <a:r>
              <a:rPr b="0" i="1" lang="en-US" sz="1600" spc="-1" strike="noStrike" u="sng">
                <a:solidFill>
                  <a:srgbClr val="000000"/>
                </a:solidFill>
                <a:uFillTx/>
                <a:latin typeface="Arial Rounded MT Bold"/>
                <a:ea typeface="Arial"/>
              </a:rPr>
              <a:t>mydeco.com.</a:t>
            </a:r>
            <a:r>
              <a:rPr b="0" lang="en-US" sz="1600" spc="-1" strike="noStrike">
                <a:solidFill>
                  <a:srgbClr val="000000"/>
                </a:solidFill>
                <a:latin typeface="Arial Rounded MT Bold"/>
                <a:ea typeface="Arial"/>
              </a:rPr>
              <a:t>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ea typeface="Arial"/>
              </a:rPr>
              <a:t> </a:t>
            </a:r>
            <a:endParaRPr b="0" lang="en-US" sz="1600" spc="-1" strike="noStrike">
              <a:solidFill>
                <a:srgbClr val="000000"/>
              </a:solidFill>
              <a:latin typeface="Perpetua"/>
            </a:endParaRPr>
          </a:p>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296" name="Rectangle 1"/>
          <p:cNvSpPr/>
          <p:nvPr/>
        </p:nvSpPr>
        <p:spPr>
          <a:xfrm>
            <a:off x="0" y="0"/>
            <a:ext cx="184320" cy="461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ea typeface="Arial"/>
              </a:rPr>
              <a:t>Purposes of lighting</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_______________lighting: also known as _____________________ or ambient lighting.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just enough light so everything in the room can be seen.</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_______________ the shadows and harsh contrasts caused by other lighting sourc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Overhead light in any room</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handelier in dining room</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eiling fan with light</a:t>
            </a:r>
            <a:endParaRPr b="0" lang="en-US" sz="2800" spc="-1" strike="noStrike">
              <a:solidFill>
                <a:srgbClr val="000000"/>
              </a:solidFill>
              <a:latin typeface="Perpetu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ea typeface="Arial"/>
              </a:rPr>
              <a:t>______________lighting</a:t>
            </a:r>
            <a:r>
              <a:rPr b="0" lang="en-US" sz="4400" spc="-1" strike="noStrike">
                <a:solidFill>
                  <a:srgbClr val="000000"/>
                </a:solidFill>
                <a:latin typeface="Arial"/>
                <a:ea typeface="Arial"/>
              </a:rPr>
              <a:t>: light that shines on specific areas</a:t>
            </a:r>
            <a:endParaRPr b="0" lang="en-US" sz="4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ea typeface="Arial"/>
              </a:rPr>
              <a:t>__________ light</a:t>
            </a:r>
            <a:r>
              <a:rPr b="0" lang="en-US" sz="4400" spc="-1" strike="noStrike">
                <a:solidFill>
                  <a:srgbClr val="000000"/>
                </a:solidFill>
                <a:latin typeface="Arial"/>
                <a:ea typeface="Arial"/>
              </a:rPr>
              <a:t>: reflected off ceilings and walls. More diffused and softer</a:t>
            </a:r>
            <a:endParaRPr b="0" lang="en-US" sz="4400" spc="-1" strike="noStrike">
              <a:solidFill>
                <a:srgbClr val="000000"/>
              </a:solidFill>
              <a:latin typeface="Perpetu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_____________</a:t>
            </a:r>
            <a:r>
              <a:rPr b="0" lang="en-US" sz="2800" spc="-1" strike="noStrike">
                <a:solidFill>
                  <a:srgbClr val="000000"/>
                </a:solidFill>
                <a:latin typeface="Arial"/>
                <a:ea typeface="Arial"/>
              </a:rPr>
              <a:t> lighting: focuses light on an area where it is needed most. </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provide the best task light, shades should shaped so that light is directed ______________</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Desk lamp illuminates a desk top.</a:t>
            </a:r>
            <a:endParaRPr b="0" lang="en-US" sz="2800" spc="-1" strike="noStrike">
              <a:solidFill>
                <a:srgbClr val="000000"/>
              </a:solidFill>
              <a:latin typeface="Perpetua"/>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ght above a range or kitchen island</a:t>
            </a:r>
            <a:endParaRPr b="0" lang="en-US" sz="2800" spc="-1" strike="noStrike">
              <a:solidFill>
                <a:srgbClr val="000000"/>
              </a:solidFill>
              <a:latin typeface="Perpetua"/>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ght on sewing machine</a:t>
            </a:r>
            <a:endParaRPr b="0" lang="en-US" sz="28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___________</a:t>
            </a:r>
            <a:r>
              <a:rPr b="0" lang="en-US" sz="2800" spc="-1" strike="noStrike">
                <a:solidFill>
                  <a:srgbClr val="000000"/>
                </a:solidFill>
                <a:latin typeface="Arial"/>
                <a:ea typeface="Arial"/>
              </a:rPr>
              <a:t> lighting: aimed directly on a specific object to create a dramatic effect.</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r the most dramatic effect, the accent lighting should be at least ________ times brighter than general lighting.</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 Light over a special painting, </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ghts in a china cabinet</a:t>
            </a:r>
            <a:endParaRPr b="0" lang="en-US" sz="2800" spc="-1" strike="noStrike">
              <a:solidFill>
                <a:srgbClr val="000000"/>
              </a:solidFill>
              <a:latin typeface="Perpetua"/>
            </a:endParaRPr>
          </a:p>
          <a:p>
            <a:pPr lvl="2" marL="82224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endParaRPr b="0" lang="en-US" sz="3600" spc="-1" strike="noStrike">
              <a:solidFill>
                <a:srgbClr val="000000"/>
              </a:solidFill>
              <a:latin typeface="Perpetu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a:rPr>
              <a:t>TYPES OF BULBS</a:t>
            </a:r>
            <a:endParaRPr b="0" lang="en-US" sz="4800" spc="-1" strike="noStrike">
              <a:solidFill>
                <a:srgbClr val="000000"/>
              </a:solidFill>
              <a:latin typeface="Perpetu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andescent Bulbs</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lIns="90000" rIns="90000" tIns="46800" bIns="46800" anchor="t">
            <a:normAutofit fontScale="86000"/>
          </a:bodyPr>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Light produced by electricity passing through a tungsten filament in a glass bulb. </a:t>
            </a:r>
            <a:endParaRPr b="0" lang="en-US" sz="3600" spc="-1" strike="noStrike">
              <a:solidFill>
                <a:srgbClr val="000000"/>
              </a:solidFill>
              <a:latin typeface="Perpetua"/>
            </a:endParaRPr>
          </a:p>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is light tends to ___________ and flattering.</a:t>
            </a:r>
            <a:endParaRPr b="0" lang="en-US" sz="3600" spc="-1" strike="noStrike">
              <a:solidFill>
                <a:srgbClr val="000000"/>
              </a:solidFill>
              <a:latin typeface="Perpetua"/>
            </a:endParaRPr>
          </a:p>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ulbs are available in variety of shapes and can be clear or frosted </a:t>
            </a:r>
            <a:endParaRPr b="0" lang="en-US" sz="3600" spc="-1" strike="noStrike">
              <a:solidFill>
                <a:srgbClr val="000000"/>
              </a:solidFill>
              <a:latin typeface="Perpetua"/>
            </a:endParaRPr>
          </a:p>
          <a:p>
            <a:pPr marL="234360" indent="-234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___________ bulbs reduce glare and give a soft light</a:t>
            </a:r>
            <a:endParaRPr b="0" lang="en-US" sz="3600" spc="-1" strike="noStrike">
              <a:solidFill>
                <a:srgbClr val="000000"/>
              </a:solidFill>
              <a:latin typeface="Perpetu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candescent bulbs (con’t)</a:t>
            </a:r>
            <a:endParaRPr b="0" lang="en-US" sz="40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mall __________ bulbs, used in chandeliers, give a sparkling effect.</a:t>
            </a:r>
            <a:endParaRPr b="0" lang="en-US" sz="4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vailable in ______ to 300 watts</a:t>
            </a:r>
            <a:endParaRPr b="0" lang="en-US" sz="4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Used in ___________, overhead lights, outdoor lights</a:t>
            </a:r>
            <a:endParaRPr b="0" lang="en-US" sz="4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21:10:54Z</dcterms:created>
  <dc:creator> sherry brooks</dc:creator>
  <dc:description/>
  <dc:language>en-US</dc:language>
  <cp:lastModifiedBy>s.brooks</cp:lastModifiedBy>
  <dcterms:modified xsi:type="dcterms:W3CDTF">2011-03-22T14:04:49Z</dcterms:modified>
  <cp:revision>20</cp:revision>
  <dc:subject/>
  <dc:title>4.05 LIGHTING</dc:title>
</cp:coreProperties>
</file>